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dt" idx="4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ftr" idx="4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 type="sldNum" idx="4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BDDE-F8F2-41BE-BFF2-A2359A1D1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F1C6-BFA9-41FB-A801-AA8BFE041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E2A4-E4AB-4FC2-98F6-6C5DA5941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9695-D06D-4F6C-A549-489BB9214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2A8A-4DD3-4B04-A346-1C86AAB8A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8E90-AFBE-484D-A73D-F10F082A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CD23-E04B-4B0C-AD8A-6D0E7C962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40D5-6E68-455B-9764-C18BF8E69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Number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52A8-26E7-47D6-82FE-9CD4E6C94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5AD5-1B92-4961-B038-496281A6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9394-65F6-412D-9CCB-6055F7FF0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0299-3D9C-46ED-8762-4378E6C3B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53C0-6A97-4830-9A1B-46C5A631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B926-5A83-486F-903A-6D9CB10C0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3829-534F-4C07-ABC5-2043D329F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B429-491B-48A3-8517-A65EF5B7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A003-DEA3-44CC-A7D3-891090FA4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2A99-9FDA-4C17-9D67-3D7BC8888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5862-2C3D-49D8-B235-C821504B5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D049-4462-49C4-AAD9-2F0B0E19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3A3F-69AA-4D34-95C2-2ACB41B91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C4C6-A7CE-4A27-9FA7-46AAFF51A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7F11-ACA3-477D-9841-049C59A3B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39FF-77DC-4E24-B5F0-BDB94D867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155E-A3A5-4BEB-B57A-879BEC9A0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6914-C580-48E9-ADAE-3F289B94C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B88D-C308-41B5-847E-3B5618C9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3F4A-10E0-4BC6-81E4-26E0E6791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A470-0FE3-48C0-ADB7-9D8A0F30F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38E7-3A5E-417C-8232-5042151E277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9FDE-4700-4909-81FC-297D961ED2D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A94DF-540B-4E16-9E15-ABA51F80DE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6FFB8-7D77-4FF1-96ED-21FB837F100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2ED29-ABC1-4F41-A204-95233F1440F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77EA6-6DB5-4DF8-BAA6-0FC0A8624EF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C9F7-760C-48A7-8644-63344DB0EF3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C6A1-29C9-43E1-A97E-DDA6928F1F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A0B37-0234-4CF4-80F2-675C8E35511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D547E-8A7F-4D7D-87A9-834E0EB618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6A7E5-369D-4C3D-808B-A92B07EBD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DE8A-39DA-4018-B6FD-95DE494E8EB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A233A-6CBC-43C7-A8D0-85963D2A191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8167B-AE6C-4B06-A801-D4E991D2CE3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04135-46CE-4622-B1C2-3AAE85F59A9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3B9DB-649E-45BF-B6A9-D1A20C038B0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20868-D6F5-4586-93AA-40E411B5F36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C623D-248E-4363-9D0B-B536AF89496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74A33B-2E6D-4963-B00B-20562A96292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7E9266-D055-40CB-9076-FE94EFFC25C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9D6EC-D6A6-4A43-8ADE-A00988663FF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AE643-AE2D-4954-A651-3FDE8AC93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4F22-41D1-4444-805C-E2BDD46C72B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4F551-9C93-4254-979E-E7FB22D0196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BFA3ED-FE8C-4FC1-BB62-29EF4851CA7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BAC1AB-C312-460C-914E-887254C9266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0D5E6-4B5F-4F41-96A8-953758666D8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82B4F5-DA4D-4A27-946E-907E9ACCF1C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6569C4-C9FB-4A62-963C-6A35FD2FA67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50192B-3419-452F-92E6-55672602287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7F50A9-9E4E-4827-B478-1C7CAE9FC3A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711F6F-7FAE-4B88-9C1B-F5D5D4EC90B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E8DD4B-DC5E-4E61-8880-8CA53E184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923-2BB0-4B31-AA49-BAD60D878A4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55CEF7-2A95-461B-944C-875C7D691BD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AF302C-0EB4-43AB-8056-6C26CDDC3BA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A4DEB8-8E63-4016-887E-04146F3C1C6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1CDC6-2DDF-4FB1-A3E2-BB9F8D89EB6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0528-3578-4BA1-A814-0DBB5E2CDC8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165D4-5D24-4733-B337-98920CB28FA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257B2-92BA-4D46-8F9B-8EA25B35760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3D951-7B6E-42CA-A2D5-FAFF0B3F195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8BBDF-C0CD-4DAC-AFB1-CC253202626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2CC30-9F0D-4765-A6FE-CAB3E41823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1B3-EC3A-4BCB-9444-1CDB267185D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D2E77-DC24-4390-AEA2-416875F44B6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EBCC8-21EF-49B1-93FA-464B01772C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617EC-5EFC-4A9F-8E5E-F6F7D867A0F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198CD-C505-4F56-B3E7-ED950AB2546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C6798-9E67-43B5-BE8D-AA7638F77CE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2A4-AA6C-408D-A748-2E2FF2A0B72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149-8B5C-4E33-B2BF-F03E412146C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B27-C2C1-47FD-8A8C-3B55142B3F5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319-B18D-49B2-9616-2BF21133570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03DEC-8A50-41EE-8BCE-017A2E14332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5F4418-FE73-48EE-9397-0B314AE01E9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015156-3708-481B-A41D-825E6122FD3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A8C61F-F720-41A8-A7A1-9A2FB02C9EC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18BFF-FD58-4042-89C4-EA4A5134869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7C513-F07F-4DE2-BF0F-A6AE5A750B0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D48F72-9AD7-419E-B1AF-A5F103F2572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9FBB11-9ADB-44E2-98F0-8E5259F138C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2311F7-754B-4579-AF84-2D7B355502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DA9-C9F1-48D3-9CA3-9D4938DACB2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376617-7A5F-4B9D-95C7-4075525FB14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12785-414B-4897-827C-E2BA11D5EBE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FC0968-EBA0-45E4-94E1-FC7D12E192E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932BE-394F-4193-B2D6-3DE125ABB3D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A26FD-924D-4E80-9779-83ED1719CCF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4AD20-D575-4DBB-9392-DA3E0937343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021E5-A836-4489-8479-FF7FDB3C3F4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B97E0-90BF-4915-8CD2-25408863EA8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B88BE-6DDB-40F0-84A3-A1F88A5B75A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F7714-A72E-4E22-9692-740B86FB31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55AF-F13B-46D7-A422-ECE4F6A07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F56-F4DA-47E7-B559-41B3E3AC142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3A7D3-77C6-4488-824A-7BA75A69496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D619F-935F-427B-84D1-0EAE6F665DD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A1EF2-31B1-48F7-8881-30F6B2091C2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08AC7-2E46-4BEF-AD8C-75C5E3E4378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B32DA-F107-4224-8092-009D00D2199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ADDEA-3828-4F9D-8CE2-37A7BE44A05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93FEE-1A01-4F22-8A48-510C5224F05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9C456-A8E5-45D4-895E-A2D435B807C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AFC12-A234-4001-808D-8DB19C8684B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7DD59-F5C8-4978-8B2F-6453F2C111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9E7-5759-4D78-8259-202FA4B6483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E0ABC-40D2-442D-A2B8-6D2DCEAE949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8404A-78A1-468B-8748-967BEE190D6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5D4A9-FD70-433C-A573-2FA5E83B041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50F11-CC6F-453E-BF59-8AE24143CCA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496D7-11AB-4AB7-B430-8A3D253B29A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7A7D1-73A7-4D34-B6DD-E86F1E8AD4C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CA06F-6667-4848-81A0-19DFD90989F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F1616B-3673-4E40-B901-BDEE5FEE5A0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BF1035-E4E6-4F6C-9CF7-5755F9C373E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E8E94B-AC1D-4EFC-8B9C-384BB5BF4E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C3A-9C2D-4CC6-BD1F-9EFCE465D72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C0703F-0F40-4081-B9EF-93D69B4AA7D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59D7E4-E7A9-4B08-A65A-FFFC22A938B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7F0E78-D4E6-449C-B3CD-D9DF0C198EE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480330-9CEF-4901-B2C2-F0D76E896D8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072CE8-F296-4E57-B663-7BE2C9CEB46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C439DF-6ED5-47BE-B377-3311406BA6B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BA1547-CFD8-49AB-A26B-CF2D8A29433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D898CF-1D0D-4C72-B564-C25FC94723B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BD1316-8D32-4766-8CDF-ECB378F36B6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0D860C-CDD2-41A7-AB96-79F4D9741F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875-3F07-4F8A-A75C-FCB2F38918F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5B2A34-5BE7-4538-A955-A874A452A74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824B14-CD88-454A-A09A-84D14DF9F07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1BAFDC-FC9F-4E0E-9E99-7033F2EC6E4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42A5BF-DDDF-4D77-8110-BC89F86849C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EA2BEA-A820-4630-98EF-4B4A9BFC2F2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824D9A-3CE9-479C-836F-03E4E971ED7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4CC255-7B3D-4C89-BFC0-23A935B66FD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D4904B-E098-468C-884D-C31B9DF0AA6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99945B-E1F8-43C5-BB60-7BDDD92A6A9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FBC679-42B5-4EF7-8DDF-969A7697FE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855-9548-49A7-899F-88262AB8C72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ECC3D6-D472-425F-9B36-3E3552D75B3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1B96D-BF2C-4A2A-BB7F-9861AF43D7C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6C2C0-CF6B-4348-87FF-0C3DB4D094E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F868D-2559-4559-A615-ADE28F26B44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751F7-1702-42B8-B6B3-E9C578EE2ED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2E388-1C47-4CDA-BCFD-BC81725E783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1DD85-2450-418D-88BF-1942408FC98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86452-407D-4C39-B2B7-8C99A507A19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790D3-857C-4903-BDDE-D3E091707EF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BAFDE-1798-4143-8291-FB2EC04A27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EE88C-BD20-422F-9BA5-976816AC87B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C5D0B-419C-4684-B3A3-A99ED626082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D3AE8-F68A-4EB2-902D-04A6D271684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1BE2C1-EB35-4616-B369-F7DCF07C1C0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D95EC8-2F7D-4CBE-B5B7-BE3D65CFDA5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C8EF87-70EA-4CB5-915A-43C2D813490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2DB05A-9CD0-4408-8BB9-B9A053A8C50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A819CA-6A97-4152-A3E1-0BBA93A74CA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46B8B6-AB6E-4873-8C1E-A267DE949D4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4D6AFD-A3BA-448F-BF51-F2F941D18F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D77F03-9563-4B75-AA10-D9A8C3B101E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3CE2F4-3B5F-48B1-BC62-D64A4111FFE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05F958-02C8-460D-B0B6-ED55AE6DDC7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8AD12F-E461-499D-91B6-9A6EF1D4E07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516EE3-1C0E-4D81-AF01-1270E9275C9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E9EBD5-EDE3-424A-9B63-E31781548EF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C07357-E0F5-44D6-86F7-9412F7CF96B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1157D2-BBF5-4F94-A5A3-CD314E51664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129BCB-0AC9-4B5C-9E8F-024C280C804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829E39-7F15-4700-90BA-288F649647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CCFA14-4395-4F49-A760-773E07B6905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4AF5AE-D90A-46AB-B8FF-B2CDF2589FF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1B64E2-023E-4DE0-AC5E-4AABD7D7994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EE0DE7-3388-4541-80C6-78C133EBC43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A4ABDC-3C0D-493E-841C-0698C6E1C8D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80A9CF-FF9B-4955-816E-F439BB5B764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2693DB-74BE-4B7E-BE8E-A118FB6E776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CEED5-B23A-4177-86D7-B5D11D4E8AC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6FFD4-5935-489D-9A71-DC47C2C8692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B94D6-363C-4AD6-98AB-BDDAEAAB06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DDE3A-0C4F-4628-9497-3778C483C93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B8131-81A1-4C69-BB52-E02C55856FD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48BB6-60EE-4E5D-89E9-6F037E504A9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45134-951F-4413-B8EF-3965138BE77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0E34E-F66A-4B5A-A69A-4B418347502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06F5A-5EC9-4F11-9F74-A7596590423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F5C15-412A-413F-B68F-82A56D4DE8C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60AB6-93D2-4708-AB39-F70DD9E7E1B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3A17D-B962-4436-80F7-200C7F29FB4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9B51-2161-4931-9A8F-998A6BC4F2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F76F5-A174-43D7-8133-CCC04AA272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3D988-7D20-4DFD-91C8-A128134864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8DEE2-3DA1-4F8A-9E43-3DC87BC53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76FD-1718-4571-BA31-4D33B0A0BA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7EE3E-E671-4FF1-AD0E-ACD8A147D9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63500-560C-4D36-85EC-4370C5A264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B6B2C-DA34-4A63-88DF-811746414C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AFE49-0B3E-4D70-AD70-14C1721F5F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CD4AB-6954-4126-9E5E-CE56C28A67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14070-6CD0-4B44-955F-03B4DCCAB8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11425-450D-4421-9CA3-05F46682D9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CF34A-A591-49E9-9E27-63E6605838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56766-B491-4232-8A10-0F1127E4EB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A105B-0BD6-417D-AE30-00744F48F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3647-1417-460C-B7EC-C89E8B9E366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9B598-B349-406A-ACAF-47F979BA4B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6C7B7-9D80-497F-B907-14E2C499A4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CAAA18-E862-4067-B23E-8B5BD749F2F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39EAF-E98B-4F96-BB73-B8A61479084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C3756C-E9D4-473C-B27B-9EF31EAA87F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F8FE25-31CD-43BB-A9F1-41F43EB5878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CD0702-40CD-40E5-BF03-6260BB2D0F6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C978E-04BD-4649-81BF-CEBF67C3DB5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85B28D-B0FA-491F-A3FF-98612039E5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CA323-7BE2-49C2-B1BF-8A6579EAF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91A5-FA04-4EA1-981A-2A5C58ED1D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F023B3-DE70-4787-AE92-484BC009F6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0AED-7492-419F-B9C1-BAD148360F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FBA2-15ED-4F8A-8BE7-3F0561E6DE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233C-43FF-42A9-9E5A-5A1116CA12C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AC34A-6C5E-41E8-9EBB-403FC054BB5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CA58-EB55-44A1-8E80-09E5B7EAD01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CC75-5625-42B7-B2E2-A514332643E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2A59-D387-453F-8ACD-33001605EE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50CE-A1F3-4FC3-9E5F-1C0B95A362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60FA-9778-4B9A-BB6B-5F2A20F2D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318F-37F8-44C6-83FA-CB0878BF38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8249-6441-4089-9108-0CA2E07B94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AB1C4-949D-4EC3-A2AD-00C525EE8C4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44F2B-98DC-403D-89D9-41CE2DF56F9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CA05C-29B1-4DCC-8EA1-A933276E3E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4320D-483F-4453-A295-32F0F16E1AE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2E0F3-3933-4665-9460-6BBC5D3E040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4B32B-51DE-40E1-AA8F-062ACE7945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85E81F-AB45-44EE-9E0E-9D73B92A9E9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FF6C5-1734-42AC-9B92-FA3F83505B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B9B0C-6AD8-4FDF-AC77-B9ACD02D2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6A5D-816B-4BAD-90AA-BAE98708F3A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EC72D-442E-4350-B29C-0B258308AD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ED310-1996-48B8-B0EE-C8308000D37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B82B53-7B02-4B7A-AFB2-ACF0A3ACF5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D6FCC7-7B40-41C4-A7BB-0D01EA05A2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155F6-F9B3-4835-B9DA-4D008A4DCC5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39D8A7-0B84-4BE3-9F20-5B00F6A6D98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903E70-4842-4775-B15C-943C920CDD4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68210A-5A55-4379-84AE-FF234E82557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9DB76E-44F4-48AC-9F61-0EF99328364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E54096-F030-4BD4-9FA5-0E0AC41DC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22DE-E97C-41A6-B1C0-6250BBB0768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609588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4F3FA2-26D6-4CD5-B3D2-387118FD22C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06D4D6-37C2-4377-B44A-CB69A78EFDE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D9A46-DA9E-492F-848C-9AC27729C19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0C91F2-B5AC-43E3-9FC4-01A7737A28D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628A4C-178B-4BDB-B737-169EB8D03E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53880"/>
            <a:ext cx="40158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95B217-BD82-450A-9C9B-F54F99BF290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53880"/>
            <a:ext cx="264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BD6F4-748E-492E-85B1-B21101E774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8C9A9-9A4B-4932-AAA8-5F4B724CB66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C9225-AD84-418F-B013-445AE7CF154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4623D-0A15-4860-965C-0F9D325C9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3" name="Picture 10" descr="icon_logo"/>
          <p:cNvPicPr/>
          <p:nvPr/>
        </p:nvPicPr>
        <p:blipFill>
          <a:blip r:embed="rId4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5796-F77F-4EC1-A566-4030DBDC2FE5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F671-C489-40D6-83E9-4DB914DD8E07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1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6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4261-9206-4DDA-A283-1CDE93592C56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512" name="Picture 12" descr="_0013_14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7929-4B26-4D03-B08C-4CC1D81829E9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671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673" name="Picture 9" descr="_0010_11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Num" idx="2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3415-5B25-4426-BD60-20A4062BB428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1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720" name="Picture 9" descr="_0011_12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2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5F68-EEC9-4F2D-984D-7EC5AD4A6D9B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2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76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767" name="Freeform 9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8" name="Picture 11" descr="_0014_15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Num" idx="2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E638-421D-4A7C-9557-2CD37223DD5F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2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12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814" name="Picture 9" descr="_0009_10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2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F375-5F3C-428B-8DF9-03621B4A74EC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4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9B21-10DA-474E-A23B-34B67092FE83}" type="slidenum">
              <a:rPr b="0" lang="en-US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85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861" name="Picture 9" descr="_0012_13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sldNum" idx="3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E086-03C7-4A49-A952-9197C55A176B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32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06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sldNum" idx="3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343A-06F7-4038-8248-5AC0BAB69FE0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3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4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sldNum" idx="3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D7BB-0F61-462F-951A-E533D459C014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ftr" idx="3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992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31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994" name="Picture 9" descr="_0015_16.jpg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Freeform 21"/>
            <p:cNvSpPr/>
            <p:nvPr/>
          </p:nvSpPr>
          <p:spPr>
            <a:xfrm>
              <a:off x="137160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3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3260-5915-49A5-BA6E-B0B7AAAC6D38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38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10" descr="icon_logo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03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1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041" name="Picture 9" descr="_0013_14.jpg"/>
            <p:cNvPicPr/>
            <p:nvPr/>
          </p:nvPicPr>
          <p:blipFill>
            <a:blip r:embed="rId3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sldNum" idx="3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6761-245E-4605-8DE5-4AFB11855DF4}" type="slidenum">
              <a:rPr b="0" lang="en-US" sz="1200" spc="-1" strike="noStrike">
                <a:solidFill>
                  <a:srgbClr val="9f9f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4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1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132" name="Picture 12" descr="_0010_11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2EC1-5BA4-41F6-8FDA-1C256915E009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5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181" name="Picture 12" descr="_0011_12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7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E1A3-08B1-4707-9B4C-AD1E41F919B2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sp>
          <p:nvSpPr>
            <p:cNvPr id="230" name="Freeform 12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13" descr="_0014_15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288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9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6992-9B75-4EF8-8553-C8830920D814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0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6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7"/>
          <p:cNvGrpSpPr/>
          <p:nvPr/>
        </p:nvGrpSpPr>
        <p:grpSpPr>
          <a:xfrm>
            <a:off x="0" y="0"/>
            <a:ext cx="9144000" cy="1289160"/>
            <a:chOff x="0" y="0"/>
            <a:chExt cx="9144000" cy="1289160"/>
          </a:xfrm>
        </p:grpSpPr>
        <p:pic>
          <p:nvPicPr>
            <p:cNvPr id="279" name="Picture 12" descr="_0009_10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Freeform 21"/>
            <p:cNvSpPr/>
            <p:nvPr/>
          </p:nvSpPr>
          <p:spPr>
            <a:xfrm>
              <a:off x="1376280" y="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1"/>
            <p:cNvSpPr/>
            <p:nvPr/>
          </p:nvSpPr>
          <p:spPr>
            <a:xfrm>
              <a:off x="0" y="288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1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CB0D-8D1A-4C15-9A00-6FD8BA1DD1EB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2"/>
          </p:nvPr>
        </p:nvSpPr>
        <p:spPr>
          <a:xfrm>
            <a:off x="-360" y="6324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4"/>
          <p:cNvGrpSpPr/>
          <p:nvPr/>
        </p:nvGrpSpPr>
        <p:grpSpPr>
          <a:xfrm>
            <a:off x="0" y="-3240"/>
            <a:ext cx="9144000" cy="1289520"/>
            <a:chOff x="0" y="-3240"/>
            <a:chExt cx="9144000" cy="1289520"/>
          </a:xfrm>
        </p:grpSpPr>
        <p:pic>
          <p:nvPicPr>
            <p:cNvPr id="328" name="Picture 12" descr="_0012_13.jpg"/>
            <p:cNvPicPr/>
            <p:nvPr/>
          </p:nvPicPr>
          <p:blipFill>
            <a:blip r:embed="rId4"/>
            <a:srcRect l="0" t="0" r="0" b="4271"/>
            <a:stretch/>
          </p:blipFill>
          <p:spPr>
            <a:xfrm>
              <a:off x="0" y="0"/>
              <a:ext cx="9144000" cy="12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Freeform 21"/>
            <p:cNvSpPr/>
            <p:nvPr/>
          </p:nvSpPr>
          <p:spPr>
            <a:xfrm>
              <a:off x="1376280" y="-3240"/>
              <a:ext cx="7256520" cy="1289160"/>
            </a:xfrm>
            <a:custGeom>
              <a:avLst/>
              <a:gdLst>
                <a:gd name="textAreaLeft" fmla="*/ 0 w 7256520"/>
                <a:gd name="textAreaRight" fmla="*/ 7256880 w 725652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0" y="0"/>
              <a:ext cx="7239240" cy="128628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13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F491-903E-403B-BC4D-5E43683A11BF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4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5" descr="_0008_9.jpg"/>
          <p:cNvPicPr/>
          <p:nvPr/>
        </p:nvPicPr>
        <p:blipFill>
          <a:blip r:embed="rId2"/>
          <a:srcRect l="0" t="0" r="0" b="4271"/>
          <a:stretch/>
        </p:blipFill>
        <p:spPr>
          <a:xfrm>
            <a:off x="0" y="0"/>
            <a:ext cx="9144000" cy="1282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icon_logo"/>
          <p:cNvPicPr/>
          <p:nvPr/>
        </p:nvPicPr>
        <p:blipFill>
          <a:blip r:embed="rId3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74" name="Freeform 21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1"/>
          <p:cNvSpPr/>
          <p:nvPr/>
        </p:nvSpPr>
        <p:spPr>
          <a:xfrm>
            <a:off x="0" y="0"/>
            <a:ext cx="7238880" cy="1285920"/>
          </a:xfrm>
          <a:custGeom>
            <a:avLst/>
            <a:gdLst>
              <a:gd name="textAreaLeft" fmla="*/ 0 w 7238880"/>
              <a:gd name="textAreaRight" fmla="*/ 7239240 w 72388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15"/>
          </p:nvPr>
        </p:nvSpPr>
        <p:spPr>
          <a:xfrm>
            <a:off x="693396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8454-ABCA-4F7C-B7BE-40638702CDD7}" type="slidenum">
              <a:rPr b="0" lang="en-US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"/>
              </a:rPr>
              <a:t>Sourc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6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6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6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65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Picture 10" descr="_0005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8" name="Group 38"/>
          <p:cNvGrpSpPr/>
          <p:nvPr/>
        </p:nvGrpSpPr>
        <p:grpSpPr>
          <a:xfrm>
            <a:off x="0" y="47520"/>
            <a:ext cx="9153000" cy="6886800"/>
            <a:chOff x="0" y="47520"/>
            <a:chExt cx="9153000" cy="6886800"/>
          </a:xfrm>
        </p:grpSpPr>
        <p:sp>
          <p:nvSpPr>
            <p:cNvPr id="1169" name="Freeform 39"/>
            <p:cNvSpPr/>
            <p:nvPr/>
          </p:nvSpPr>
          <p:spPr>
            <a:xfrm>
              <a:off x="958680" y="431640"/>
              <a:ext cx="8191440" cy="6502680"/>
            </a:xfrm>
            <a:custGeom>
              <a:avLst/>
              <a:gdLst>
                <a:gd name="textAreaLeft" fmla="*/ 0 w 8191440"/>
                <a:gd name="textAreaRight" fmla="*/ 8191800 w 8191440"/>
                <a:gd name="textAreaTop" fmla="*/ 0 h 6502680"/>
                <a:gd name="textAreaBottom" fmla="*/ 6503040 h 650268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"/>
            <p:cNvSpPr/>
            <p:nvPr/>
          </p:nvSpPr>
          <p:spPr>
            <a:xfrm>
              <a:off x="0" y="405252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"/>
            <p:cNvSpPr/>
            <p:nvPr/>
          </p:nvSpPr>
          <p:spPr>
            <a:xfrm rot="10800000">
              <a:off x="8348400" y="597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42"/>
            <p:cNvSpPr/>
            <p:nvPr/>
          </p:nvSpPr>
          <p:spPr>
            <a:xfrm>
              <a:off x="279360" y="47520"/>
              <a:ext cx="8852040" cy="5448600"/>
            </a:xfrm>
            <a:custGeom>
              <a:avLst/>
              <a:gdLst>
                <a:gd name="textAreaLeft" fmla="*/ 0 w 8852040"/>
                <a:gd name="textAreaRight" fmla="*/ 8852400 w 8852040"/>
                <a:gd name="textAreaTop" fmla="*/ 0 h 5448600"/>
                <a:gd name="textAreaBottom" fmla="*/ 5448960 h 544860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Understanding the Common Core State Standard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Picture 44" descr="small_logo.jpg"/>
          <p:cNvPicPr/>
          <p:nvPr/>
        </p:nvPicPr>
        <p:blipFill>
          <a:blip r:embed="rId2"/>
          <a:stretch/>
        </p:blipFill>
        <p:spPr>
          <a:xfrm>
            <a:off x="385920" y="5897520"/>
            <a:ext cx="2141280" cy="600120"/>
          </a:xfrm>
          <a:prstGeom prst="rect">
            <a:avLst/>
          </a:prstGeom>
          <a:ln w="0">
            <a:noFill/>
          </a:ln>
        </p:spPr>
      </p:pic>
      <p:sp>
        <p:nvSpPr>
          <p:cNvPr id="1176" name="TextBox 14"/>
          <p:cNvSpPr/>
          <p:nvPr/>
        </p:nvSpPr>
        <p:spPr>
          <a:xfrm>
            <a:off x="4780080" y="5897520"/>
            <a:ext cx="40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05F8-D3D8-49F1-82C5-5687D9C77300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Grade-Level Stand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K-8 grade-by-grade standards organized by dom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9-12 high school standards organized by conceptual categor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Standards for Mathematical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Describe mathematical “habits of mind”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 for mathematical proficiency: reasoning, problem solving, modeling, decision making, and engagemen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Connect with content standards in each gr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739800" indent="-287280">
              <a:lnSpc>
                <a:spcPct val="100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Common Core State Standards for Mathema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4822-A375-4AAA-86D7-6F35067FAD51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e K- 8 standa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The K-5 standards provide students with a solid foundation in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whole numbers, addition, subtraction, multiplication, division, fractions and decim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The 6-8 standards describe robust learning in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geometr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,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algebra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, and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probability and statistic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Modeled after the focus of standards from high-performing nations, the standards for grades 7 and 8 includ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ignificant algebra and geometry con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udents who have completed 7</a:t>
            </a:r>
            <a:r>
              <a:rPr b="0" lang="en-US" sz="1700" spc="-1" strike="noStrike" baseline="30000">
                <a:solidFill>
                  <a:srgbClr val="6b6b6b"/>
                </a:solidFill>
                <a:latin typeface="Arial"/>
                <a:ea typeface="Geneva"/>
              </a:rPr>
              <a:t>th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grade and mastered the content and skills will b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prepared for algebra, in 8</a:t>
            </a:r>
            <a:r>
              <a:rPr b="0" i="1" lang="en-US" sz="1700" spc="-1" strike="noStrike" baseline="30000">
                <a:solidFill>
                  <a:srgbClr val="6b6b6b"/>
                </a:solidFill>
                <a:latin typeface="Arial"/>
                <a:ea typeface="Geneva"/>
              </a:rPr>
              <a:t>th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grade or after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056C-A0BE-4DB8-B905-587ED808E584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Content Placeholder 9"/>
          <p:cNvSpPr/>
          <p:nvPr/>
        </p:nvSpPr>
        <p:spPr>
          <a:xfrm>
            <a:off x="228600" y="1981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Each grade includes an overview of cross-cutting themes and critical areas of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Picture 4" descr="Grade 1 Math.JPG"/>
          <p:cNvPicPr/>
          <p:nvPr/>
        </p:nvPicPr>
        <p:blipFill>
          <a:blip r:embed="rId1"/>
          <a:stretch/>
        </p:blipFill>
        <p:spPr>
          <a:xfrm>
            <a:off x="3200400" y="1371600"/>
            <a:ext cx="5638680" cy="4664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4304-58A3-4B12-BD1A-EF11EDA47516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K-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Content Placeholder 4"/>
          <p:cNvSpPr/>
          <p:nvPr/>
        </p:nvSpPr>
        <p:spPr>
          <a:xfrm>
            <a:off x="457200" y="160020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Domain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overarching ideas that connect topics across the gra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Cluster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illustrate progression of increasing complexity from grade to gr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 define what students should know and be able to do at each grad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20" descr="reading standards.JPG"/>
          <p:cNvPicPr/>
          <p:nvPr/>
        </p:nvPicPr>
        <p:blipFill>
          <a:blip r:embed="rId4"/>
          <a:stretch/>
        </p:blipFill>
        <p:spPr>
          <a:xfrm>
            <a:off x="1252440" y="3105000"/>
            <a:ext cx="6639120" cy="245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441C-8D7E-4287-9379-CDD844B0313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gh Schoo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ematics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e high school mathematics standard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all on students to practic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applying mathematical ways of thinking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o real world issues and challeng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students to develop a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depth of understanding and ability to apply mathematics to novel situation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as college students and employees regularly are called to do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mathematical model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the use of mathematics and statistics to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analyze empirical situation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understand them better, and improve decision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dentify the mathematics that all students should study in order to be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college and career read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. 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5021-1957-491D-B7B6-350FB96543E6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gh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hematics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57200" y="13712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ntent categorie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overarching ideas that describe strands of content in high school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Domains/Cluster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groups of standards that describe coherent aspects of the content categor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Standards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define what students should know and be able to do at each grade level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High school standards are organized around five conceptual categories: 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Number and Quantity, Algebra, Functions, Geometry,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d</a:t>
            </a:r>
            <a:r>
              <a:rPr b="0" i="1" lang="en-US" sz="1700" spc="-1" strike="noStrike">
                <a:solidFill>
                  <a:srgbClr val="6b6b6b"/>
                </a:solidFill>
                <a:latin typeface="Arial"/>
              </a:rPr>
              <a:t> Statistics and Probabilit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Modeling standards are distributed under the five major headings and are indicated with a (</a:t>
            </a:r>
            <a:r>
              <a:rPr b="0" lang="en-US" sz="1700" spc="-1" strike="noStrike">
                <a:solidFill>
                  <a:srgbClr val="6b6b6b"/>
                </a:solidFill>
                <a:latin typeface="Wingdings"/>
                <a:ea typeface="Wingdings"/>
              </a:rPr>
              <a:t>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) symbol.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397440" indent="-2844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indicated as (+) are beyond the college and career readiness level but are necessary for advanced mathematics courses, such as calculus, discrete mathematics, and advanced statistics. Standards with a (+) may still be found in courses expected for all students.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2B41-50C6-47C2-9EE4-021C8B7C39FE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Format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High Schoo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Mathematic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Content Placeholder 9"/>
          <p:cNvSpPr/>
          <p:nvPr/>
        </p:nvSpPr>
        <p:spPr>
          <a:xfrm>
            <a:off x="457200" y="19051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  <a:ea typeface="Geneva"/>
              </a:rPr>
              <a:t>Each content category includes an overview of the content found withi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6" descr="Number.JPG"/>
          <p:cNvPicPr/>
          <p:nvPr/>
        </p:nvPicPr>
        <p:blipFill>
          <a:blip r:embed="rId1"/>
          <a:stretch/>
        </p:blipFill>
        <p:spPr>
          <a:xfrm>
            <a:off x="3657600" y="1360440"/>
            <a:ext cx="5334120" cy="488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FC95-2744-4A58-81F6-7A654C1D8CE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 Course Pathways for Mathema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91b1"/>
                </a:solidFill>
                <a:latin typeface="Arial"/>
              </a:rPr>
              <a:t>Model Mathematics Pathway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eveloped by a panel of experts convened by Achieve, including many of the standards writers and reviewer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rganize the content of the standards into coherent and rigorous cours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llustrate possible approaches—models, not mandates or prescriptions for organization, curriculum or pedagog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completion of the Core in three years, allowing for specialization in the fourth year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repare students for a menu of courses in higher-level mathematic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 the process of finalizing – to be released by the end of Jul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Down Arrow 14"/>
          <p:cNvSpPr/>
          <p:nvPr/>
        </p:nvSpPr>
        <p:spPr>
          <a:xfrm flipV="1">
            <a:off x="2133720" y="2286000"/>
            <a:ext cx="760320" cy="327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own Arrow 48"/>
          <p:cNvSpPr/>
          <p:nvPr/>
        </p:nvSpPr>
        <p:spPr>
          <a:xfrm flipV="1">
            <a:off x="6705720" y="2286000"/>
            <a:ext cx="760320" cy="327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AFA3-327D-456D-BEF9-F2C5A1183B02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Model Course Pathways for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5"/>
          <p:cNvSpPr/>
          <p:nvPr/>
        </p:nvSpPr>
        <p:spPr>
          <a:xfrm>
            <a:off x="533520" y="5562720"/>
            <a:ext cx="3962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raditional in U.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Freeform 10"/>
          <p:cNvGrpSpPr/>
          <p:nvPr/>
        </p:nvGrpSpPr>
        <p:grpSpPr>
          <a:xfrm>
            <a:off x="1547640" y="3786120"/>
            <a:ext cx="1987560" cy="889200"/>
            <a:chOff x="1547640" y="3786120"/>
            <a:chExt cx="1987560" cy="889200"/>
          </a:xfrm>
        </p:grpSpPr>
        <p:pic>
          <p:nvPicPr>
            <p:cNvPr id="1247" name="Freeform 10" descr=""/>
            <p:cNvPicPr/>
            <p:nvPr/>
          </p:nvPicPr>
          <p:blipFill>
            <a:blip r:embed="rId1"/>
            <a:stretch/>
          </p:blipFill>
          <p:spPr>
            <a:xfrm>
              <a:off x="1547640" y="3786120"/>
              <a:ext cx="198756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1600200" y="384012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Geometr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Freeform 11"/>
          <p:cNvGrpSpPr/>
          <p:nvPr/>
        </p:nvGrpSpPr>
        <p:grpSpPr>
          <a:xfrm>
            <a:off x="1547640" y="4780080"/>
            <a:ext cx="1987560" cy="888840"/>
            <a:chOff x="1547640" y="4780080"/>
            <a:chExt cx="1987560" cy="888840"/>
          </a:xfrm>
        </p:grpSpPr>
        <p:pic>
          <p:nvPicPr>
            <p:cNvPr id="1250" name="Freeform 11" descr=""/>
            <p:cNvPicPr/>
            <p:nvPr/>
          </p:nvPicPr>
          <p:blipFill>
            <a:blip r:embed="rId2"/>
            <a:stretch/>
          </p:blipFill>
          <p:spPr>
            <a:xfrm>
              <a:off x="1547640" y="4780080"/>
              <a:ext cx="1987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"/>
            <p:cNvSpPr/>
            <p:nvPr/>
          </p:nvSpPr>
          <p:spPr>
            <a:xfrm>
              <a:off x="1600200" y="483084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Algebra 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Rounded Rectangle 41"/>
          <p:cNvGrpSpPr/>
          <p:nvPr/>
        </p:nvGrpSpPr>
        <p:grpSpPr>
          <a:xfrm>
            <a:off x="407880" y="1238400"/>
            <a:ext cx="8454960" cy="1212840"/>
            <a:chOff x="407880" y="1238400"/>
            <a:chExt cx="8454960" cy="1212840"/>
          </a:xfrm>
        </p:grpSpPr>
        <p:pic>
          <p:nvPicPr>
            <p:cNvPr id="1253" name="Rounded Rectangle 41" descr=""/>
            <p:cNvPicPr/>
            <p:nvPr/>
          </p:nvPicPr>
          <p:blipFill>
            <a:blip r:embed="rId3"/>
            <a:stretch/>
          </p:blipFill>
          <p:spPr>
            <a:xfrm>
              <a:off x="407880" y="1238400"/>
              <a:ext cx="84549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"/>
            <p:cNvSpPr/>
            <p:nvPr/>
          </p:nvSpPr>
          <p:spPr>
            <a:xfrm>
              <a:off x="509760" y="1338120"/>
              <a:ext cx="82008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urses in higher level mathematics: Precalculus, Calculus (upon completion of Precalculus), Advanced Statistics, Discrete Mathematics, Advanced Quantitative Reasoning, or other courses to be designed at a later date, such as additional career technical cours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TextBox 49"/>
          <p:cNvSpPr/>
          <p:nvPr/>
        </p:nvSpPr>
        <p:spPr>
          <a:xfrm>
            <a:off x="5105520" y="5562720"/>
            <a:ext cx="396216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nternational Integrated approach (typical outside of U.S</a:t>
            </a:r>
            <a:r>
              <a:rPr b="0" lang="en-US" sz="1500" spc="-1" strike="noStrike">
                <a:solidFill>
                  <a:srgbClr val="6b6b6b"/>
                </a:solidFill>
                <a:latin typeface="Arial"/>
              </a:rPr>
              <a:t>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b6b6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Freeform 52"/>
          <p:cNvGrpSpPr/>
          <p:nvPr/>
        </p:nvGrpSpPr>
        <p:grpSpPr>
          <a:xfrm>
            <a:off x="6119640" y="3786120"/>
            <a:ext cx="1987560" cy="889200"/>
            <a:chOff x="6119640" y="3786120"/>
            <a:chExt cx="1987560" cy="889200"/>
          </a:xfrm>
        </p:grpSpPr>
        <p:pic>
          <p:nvPicPr>
            <p:cNvPr id="1257" name="Freeform 52" descr=""/>
            <p:cNvPicPr/>
            <p:nvPr/>
          </p:nvPicPr>
          <p:blipFill>
            <a:blip r:embed="rId4"/>
            <a:stretch/>
          </p:blipFill>
          <p:spPr>
            <a:xfrm>
              <a:off x="6119640" y="3786120"/>
              <a:ext cx="198756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8" name=""/>
            <p:cNvSpPr/>
            <p:nvPr/>
          </p:nvSpPr>
          <p:spPr>
            <a:xfrm>
              <a:off x="6172200" y="384012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Freeform 53"/>
          <p:cNvGrpSpPr/>
          <p:nvPr/>
        </p:nvGrpSpPr>
        <p:grpSpPr>
          <a:xfrm>
            <a:off x="6119640" y="4780080"/>
            <a:ext cx="1987560" cy="888840"/>
            <a:chOff x="6119640" y="4780080"/>
            <a:chExt cx="1987560" cy="888840"/>
          </a:xfrm>
        </p:grpSpPr>
        <p:pic>
          <p:nvPicPr>
            <p:cNvPr id="1260" name="Freeform 53" descr=""/>
            <p:cNvPicPr/>
            <p:nvPr/>
          </p:nvPicPr>
          <p:blipFill>
            <a:blip r:embed="rId5"/>
            <a:stretch/>
          </p:blipFill>
          <p:spPr>
            <a:xfrm>
              <a:off x="6119640" y="4780080"/>
              <a:ext cx="1987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"/>
            <p:cNvSpPr/>
            <p:nvPr/>
          </p:nvSpPr>
          <p:spPr>
            <a:xfrm>
              <a:off x="6172200" y="483084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Freeform 22"/>
          <p:cNvGrpSpPr/>
          <p:nvPr/>
        </p:nvGrpSpPr>
        <p:grpSpPr>
          <a:xfrm>
            <a:off x="1547640" y="2840040"/>
            <a:ext cx="1987560" cy="890640"/>
            <a:chOff x="1547640" y="2840040"/>
            <a:chExt cx="1987560" cy="890640"/>
          </a:xfrm>
        </p:grpSpPr>
        <p:pic>
          <p:nvPicPr>
            <p:cNvPr id="1263" name="Freeform 22" descr=""/>
            <p:cNvPicPr/>
            <p:nvPr/>
          </p:nvPicPr>
          <p:blipFill>
            <a:blip r:embed="rId6"/>
            <a:stretch/>
          </p:blipFill>
          <p:spPr>
            <a:xfrm>
              <a:off x="1547640" y="2840040"/>
              <a:ext cx="19875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"/>
            <p:cNvSpPr/>
            <p:nvPr/>
          </p:nvSpPr>
          <p:spPr>
            <a:xfrm>
              <a:off x="1600200" y="289548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Algebra 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Freeform 23"/>
          <p:cNvGrpSpPr/>
          <p:nvPr/>
        </p:nvGrpSpPr>
        <p:grpSpPr>
          <a:xfrm>
            <a:off x="6119640" y="2840040"/>
            <a:ext cx="1987560" cy="890640"/>
            <a:chOff x="6119640" y="2840040"/>
            <a:chExt cx="1987560" cy="890640"/>
          </a:xfrm>
        </p:grpSpPr>
        <p:pic>
          <p:nvPicPr>
            <p:cNvPr id="1266" name="Freeform 23" descr=""/>
            <p:cNvPicPr/>
            <p:nvPr/>
          </p:nvPicPr>
          <p:blipFill>
            <a:blip r:embed="rId7"/>
            <a:stretch/>
          </p:blipFill>
          <p:spPr>
            <a:xfrm>
              <a:off x="6119640" y="2840040"/>
              <a:ext cx="19875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6172200" y="2895480"/>
              <a:ext cx="18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243360" bIns="24336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1911240"/>
                  <a:tab algn="l" pos="3822840"/>
                  <a:tab algn="l" pos="5734080"/>
                  <a:tab algn="l" pos="7645320"/>
                  <a:tab algn="l" pos="9556920"/>
                </a:tabLst>
              </a:pPr>
              <a:r>
                <a:rPr b="1" lang="en-US" sz="1500" spc="-1" strike="noStrike">
                  <a:solidFill>
                    <a:srgbClr val="263685"/>
                  </a:solidFill>
                  <a:latin typeface="Arial"/>
                </a:rPr>
                <a:t>Mathematics II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10" descr="_0007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69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270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8"/>
          <p:cNvSpPr/>
          <p:nvPr/>
        </p:nvSpPr>
        <p:spPr>
          <a:xfrm>
            <a:off x="3581280" y="3352680"/>
            <a:ext cx="55436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Core State Standards for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nglish Language Arts and Literacy in History/ Social Studies, Science, and Technical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mon Core State Standards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B95F-13CE-4D33-9496-43C4E2E5A912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Content Placeholder 1"/>
          <p:cNvSpPr/>
          <p:nvPr/>
        </p:nvSpPr>
        <p:spPr>
          <a:xfrm>
            <a:off x="838080" y="1828800"/>
            <a:ext cx="7467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Beginning in the spring of 2009, Governors and state commissioners of education from 48 states, 2 territories and the District of Columbia committed to developing a common core of state K-12 English-language arts (ELA) and mathematics standar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1d91b1"/>
                </a:solidFill>
                <a:latin typeface="Arial"/>
              </a:rPr>
              <a:t>Common Core State Standards Initiative (CCSSI)</a:t>
            </a:r>
            <a:r>
              <a:rPr b="0" lang="en-US" sz="2200" spc="-1" strike="noStrike">
                <a:solidFill>
                  <a:srgbClr val="1d91b1"/>
                </a:solidFill>
                <a:latin typeface="Arial"/>
              </a:rPr>
              <a:t> is a state-led effort coordinated by the National Governors Association (NGA) and the Council of Chief State School Officers (CCSS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63685"/>
                </a:solidFill>
                <a:uFillTx/>
                <a:latin typeface="Arial"/>
                <a:ea typeface="Geneva"/>
              </a:rPr>
              <a:t>www.corestandards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BA7A-F0D0-4077-9834-F5CBA70A47DE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f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Language Arts and Literacy in History/Social Studies, Science, and Technical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ollege and Career Readiness (CCR) Standards  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verarching standards for each strand that are further defined by grade-specific standard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Grade-Level Standards in English Language Arts 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-8, grade-by-grad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9-10 and 11-12 grade bands for high school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ur strands: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Read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Writ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Speaking and Listenin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, and </a:t>
            </a:r>
            <a:r>
              <a:rPr b="1" i="1" lang="en-US" sz="1700" spc="-1" strike="noStrike">
                <a:solidFill>
                  <a:srgbClr val="6b6b6b"/>
                </a:solidFill>
                <a:latin typeface="Arial"/>
              </a:rPr>
              <a:t>Languag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tandards for Literacy in History/Social Studies, Science, and Technical Subjects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are embedded at grades K-5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ontent-specific literacy standards are provided for grades 6-8, 9-10, and 11-12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3" marL="1425600" indent="-287280">
              <a:lnSpc>
                <a:spcPct val="115000"/>
              </a:lnSpc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2" marL="739800" indent="-287280">
              <a:spcBef>
                <a:spcPts val="601"/>
              </a:spcBef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74F0-39DC-44F4-BE6B-E17A5011309D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Geneva"/>
              </a:rPr>
              <a:t>Rea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 St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6"/>
          <p:cNvSpPr/>
          <p:nvPr/>
        </p:nvSpPr>
        <p:spPr>
          <a:xfrm>
            <a:off x="457200" y="1600200"/>
            <a:ext cx="8229600" cy="36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rogressive development of reading comprehension; students gain more from what they read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the importance of grade-level texts that are of appropriate difficulty and are increasingly sophisticat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Standards for Reading Foundational Skills (K-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ture (K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Informational Text (K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cy in History/Social Studies (6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87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for Literacy in Science and Technical Subjects (6-1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Slide Number Placeholder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E989-1286-4E7A-9AAA-0CC40660CF08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itle 1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Geneva"/>
              </a:rPr>
              <a:t>Overview of Text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4"/>
          <p:cNvSpPr/>
          <p:nvPr/>
        </p:nvSpPr>
        <p:spPr>
          <a:xfrm>
            <a:off x="457200" y="1295280"/>
            <a:ext cx="8229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Reading Standards include over exemplar texts (stories and literature, poetry, and informational texts) that illustrate appropriate level of complexity by g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  <a:ea typeface="Geneva"/>
              </a:rPr>
              <a:t>Text complexity is def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29"/>
          <p:cNvGrpSpPr/>
          <p:nvPr/>
        </p:nvGrpSpPr>
        <p:grpSpPr>
          <a:xfrm>
            <a:off x="457200" y="2971800"/>
            <a:ext cx="7428600" cy="2859120"/>
            <a:chOff x="457200" y="2971800"/>
            <a:chExt cx="7428600" cy="2859120"/>
          </a:xfrm>
        </p:grpSpPr>
        <p:grpSp>
          <p:nvGrpSpPr>
            <p:cNvPr id="1286" name="Group 28"/>
            <p:cNvGrpSpPr/>
            <p:nvPr/>
          </p:nvGrpSpPr>
          <p:grpSpPr>
            <a:xfrm>
              <a:off x="5801760" y="3097800"/>
              <a:ext cx="2084040" cy="2733120"/>
              <a:chOff x="5801760" y="3097800"/>
              <a:chExt cx="2084040" cy="2733120"/>
            </a:xfrm>
          </p:grpSpPr>
          <p:sp>
            <p:nvSpPr>
              <p:cNvPr id="1287" name="Isosceles Triangle 22"/>
              <p:cNvSpPr/>
              <p:nvPr/>
            </p:nvSpPr>
            <p:spPr>
              <a:xfrm rot="7297200">
                <a:off x="5472360" y="4084560"/>
                <a:ext cx="2742480" cy="75888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TextBox 18"/>
              <p:cNvSpPr/>
              <p:nvPr/>
            </p:nvSpPr>
            <p:spPr>
              <a:xfrm rot="17950800">
                <a:off x="5981040" y="419652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ualit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TextBox 25"/>
            <p:cNvSpPr/>
            <p:nvPr/>
          </p:nvSpPr>
          <p:spPr>
            <a:xfrm>
              <a:off x="457200" y="2971800"/>
              <a:ext cx="53442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litative measures – levels of meaning, structure, language conventionality and clarity, and knowledge deman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Group 30"/>
          <p:cNvGrpSpPr/>
          <p:nvPr/>
        </p:nvGrpSpPr>
        <p:grpSpPr>
          <a:xfrm>
            <a:off x="457200" y="3091680"/>
            <a:ext cx="8228880" cy="2745000"/>
            <a:chOff x="457200" y="3091680"/>
            <a:chExt cx="8228880" cy="2745000"/>
          </a:xfrm>
        </p:grpSpPr>
        <p:sp>
          <p:nvSpPr>
            <p:cNvPr id="1291" name="Isosceles Triangle 23"/>
            <p:cNvSpPr/>
            <p:nvPr/>
          </p:nvSpPr>
          <p:spPr>
            <a:xfrm flipH="1" rot="14352600">
              <a:off x="6286320" y="4084560"/>
              <a:ext cx="2743200" cy="758880"/>
            </a:xfrm>
            <a:prstGeom prst="triangle">
              <a:avLst>
                <a:gd name="adj" fmla="val 50000"/>
              </a:avLst>
            </a:prstGeom>
            <a:solidFill>
              <a:srgbClr val="dd4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Box 19"/>
            <p:cNvSpPr/>
            <p:nvPr/>
          </p:nvSpPr>
          <p:spPr>
            <a:xfrm rot="3558000">
              <a:off x="7062120" y="419076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Box 26"/>
            <p:cNvSpPr/>
            <p:nvPr/>
          </p:nvSpPr>
          <p:spPr>
            <a:xfrm>
              <a:off x="457200" y="3893760"/>
              <a:ext cx="53442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Quantitative measures – readability and other scores of text complex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31"/>
          <p:cNvGrpSpPr/>
          <p:nvPr/>
        </p:nvGrpSpPr>
        <p:grpSpPr>
          <a:xfrm>
            <a:off x="457200" y="4559400"/>
            <a:ext cx="8229600" cy="970560"/>
            <a:chOff x="457200" y="4559400"/>
            <a:chExt cx="8229600" cy="970560"/>
          </a:xfrm>
        </p:grpSpPr>
        <p:sp>
          <p:nvSpPr>
            <p:cNvPr id="1295" name="Isosceles Triangle 21"/>
            <p:cNvSpPr/>
            <p:nvPr/>
          </p:nvSpPr>
          <p:spPr>
            <a:xfrm>
              <a:off x="5829480" y="4732920"/>
              <a:ext cx="2857320" cy="758880"/>
            </a:xfrm>
            <a:prstGeom prst="triangle">
              <a:avLst>
                <a:gd name="adj" fmla="val 50000"/>
              </a:avLst>
            </a:prstGeom>
            <a:solidFill>
              <a:srgbClr val="2e7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Box 20"/>
            <p:cNvSpPr/>
            <p:nvPr/>
          </p:nvSpPr>
          <p:spPr>
            <a:xfrm>
              <a:off x="6210360" y="51616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der and Ta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Box 27"/>
            <p:cNvSpPr/>
            <p:nvPr/>
          </p:nvSpPr>
          <p:spPr>
            <a:xfrm>
              <a:off x="457200" y="4559400"/>
              <a:ext cx="534456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39800" indent="-282600">
                <a:spcBef>
                  <a:spcPts val="601"/>
                </a:spcBef>
                <a:buClr>
                  <a:srgbClr val="e4a11b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6b6b"/>
                  </a:solidFill>
                  <a:latin typeface="Arial"/>
                </a:rPr>
                <a:t>Reader and Task – background knowledge of reader, motivation, interests, and complexity generated by tasks assign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DD31-1573-43FB-8BD8-E2912010218B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f Grade-Level Progression in Rea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CR Reading Standard 3: Analyze how and why individuals, events, and ideas develop and interact over the course of a text.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457200" y="2438280"/>
          <a:ext cx="8229600" cy="3632400"/>
        </p:xfrm>
        <a:graphic>
          <a:graphicData uri="http://schemas.openxmlformats.org/drawingml/2006/table">
            <a:tbl>
              <a:tblPr/>
              <a:tblGrid>
                <a:gridCol w="3809880"/>
                <a:gridCol w="381240"/>
                <a:gridCol w="403848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</a:rPr>
                        <a:t>Reading Standards for Lit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263685"/>
                          </a:solidFill>
                          <a:latin typeface="Arial"/>
                        </a:rPr>
                        <a:t>Reading Standards for Informational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e characters in a story (e.g., their traits, motivations, or feelings) and explain how their actions contribute to the sequence of ev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3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e the relationships between a series of historical events, scientific ideas of concepts, or steps in technical procedures in a text, using language that pertains to time, sequence, and cause/effe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7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how particular elements of a story or drama interact (e.g., how setting shapes the characters or plo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7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the interactions between individuals, events, and ideas in a text (e.g., how ideas influence individuals or events, or how individuals influence ideas or events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 various explanations for characters’ actions or for events and determine which explanation best accords with textual evidence, acknowledging where the text leaves matters uncerta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s 11-12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a complex set of ideas or sequence of events and explain how specific individuals, ideas, or events interact and develop over the course of the tex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ed9"/>
                    </a:solidFill>
                  </a:tcPr>
                </a:tc>
              </a:tr>
            </a:tbl>
          </a:graphicData>
        </a:graphic>
      </p:graphicFrame>
      <p:sp>
        <p:nvSpPr>
          <p:cNvPr id="1302" name="Down Arrow 5"/>
          <p:cNvSpPr/>
          <p:nvPr/>
        </p:nvSpPr>
        <p:spPr>
          <a:xfrm>
            <a:off x="4343400" y="2438280"/>
            <a:ext cx="228600" cy="3353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9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DC40-0D88-46C4-917E-6A20AE6D1257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e-Level Prog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45720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mat highlights progression of standards across grade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pic>
        <p:nvPicPr>
          <p:cNvPr id="1306" name="Picture 6" descr="Reading Kil.JPG"/>
          <p:cNvPicPr/>
          <p:nvPr/>
        </p:nvPicPr>
        <p:blipFill>
          <a:blip r:embed="rId1"/>
          <a:stretch/>
        </p:blipFill>
        <p:spPr>
          <a:xfrm>
            <a:off x="457200" y="2050920"/>
            <a:ext cx="8153280" cy="405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A0FD-773E-42CD-B143-5EC70B746F49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ri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Writing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pect students to compose arguments and opinions, informative/explanatory pieces, and narrative tex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 on the use of reason and evidence to substantiate an argument or claim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ability to conduct research – short projects and sustained inquir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students to incorporate technology as they create, refine, and collaborate on writ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de student writing samples that illustrate the criteria required to meet the standards (See standards’ appendices for writing samples)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039D-45DF-405E-9E4E-EEA0DE78051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peaking and Liste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angua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57200" y="1447560"/>
            <a:ext cx="8229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peaking and Listening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 on speaking and listening in a range of settings, both formal and informal –  academic, small-group, whole-class discussion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mphasize effective communication practice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quire interpretation and analysis of message as presented through oral, visual, or multimodal forma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de conventions for writing and speak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Highlight the importance of vocabulary acquisition through a mix of conversation, direct instruction, and read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o be addressed in context of reading, writing, speaking and listening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1b2"/>
                </a:solidFill>
                <a:latin typeface="Arial"/>
              </a:rPr>
              <a:t>Media and Technology are integrated throughout the standards.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DE6E-A72D-44C5-A7FA-6E551C97B27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 of Standards f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story/Social Studies, Science, and Technical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457200" y="160020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Read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nowledg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alyze, evaluate, and differentiate primary and secondary source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ynthesize quantitative and technical information, including facts presented in maps, timelines, flowcharts, or diagram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Writing Standards for History/Social Studies, Science, and Technical Subjects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Write arguments on discipline-specific content and informative/explanatory tex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ata, evidence, and reason to support arguments and claim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Use of domain-specific vocabulary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72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10" descr="_0005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7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318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Picture 44" descr="small_logo.jpg"/>
          <p:cNvPicPr/>
          <p:nvPr/>
        </p:nvPicPr>
        <p:blipFill>
          <a:blip r:embed="rId2"/>
          <a:stretch/>
        </p:blipFill>
        <p:spPr>
          <a:xfrm>
            <a:off x="385920" y="5897520"/>
            <a:ext cx="2141280" cy="600120"/>
          </a:xfrm>
          <a:prstGeom prst="rect">
            <a:avLst/>
          </a:prstGeom>
          <a:ln w="0">
            <a:noFill/>
          </a:ln>
        </p:spPr>
      </p:pic>
      <p:sp>
        <p:nvSpPr>
          <p:cNvPr id="1324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Understanding the Common Core State Standard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2"/>
          <p:cNvSpPr/>
          <p:nvPr/>
        </p:nvSpPr>
        <p:spPr>
          <a:xfrm>
            <a:off x="4780080" y="5897520"/>
            <a:ext cx="40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Common Core State Standar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6D8F-DCB1-4749-A5F0-11CECD893DDD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5"/>
          <p:cNvSpPr/>
          <p:nvPr/>
        </p:nvSpPr>
        <p:spPr>
          <a:xfrm>
            <a:off x="457200" y="1600200"/>
            <a:ext cx="8229600" cy="36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Prepara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college- and career-ready. They will help prepare students with the knowledge and skills they need to succeed in education and training after high schoo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mpetition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he standards are internationally benchmarked. Common standards will help ensure our students are globally competitiv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Equity: 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pectations are consistent for all – and not dependent on a student’s zip cod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larity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are focused, coherent, and clear. Clearer standards help students (and parents and teachers) understand what is expected of th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b6b6b"/>
                </a:solidFill>
                <a:latin typeface="Arial"/>
              </a:rPr>
              <a:t>Collaboration: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The standards create a foundation to work collaboratively across states and districts, pooling resources and expertise, to create curricular tools, professional development, common assessments and other materi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and Tim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0267-3198-44F6-ABAE-B810B5FD98E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457200" y="1600200"/>
            <a:ext cx="822960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91b1"/>
                </a:solidFill>
                <a:latin typeface="Arial"/>
              </a:rPr>
              <a:t>K-12 Common Standards:</a:t>
            </a:r>
            <a:r>
              <a:rPr b="0" lang="en-US" sz="1800" spc="-1" strike="noStrike">
                <a:solidFill>
                  <a:srgbClr val="1d91b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28260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Core writing teams in English Language Arts and Mathematics (See </a:t>
            </a:r>
            <a:r>
              <a:rPr b="0" lang="en-US" sz="1700" spc="-1" strike="noStrike" u="sng">
                <a:solidFill>
                  <a:srgbClr val="0091b2"/>
                </a:solidFill>
                <a:uFillTx/>
                <a:latin typeface="Arial"/>
              </a:rPr>
              <a:t>www.corestandards.org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 for list of team member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xternal and state feedback teams provided on-going feedback to writing teams throughout the pro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raft K-12 standards were released for public comment on March 10, 2010; 9,600 comments receiv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Validation Committee of leading experts reviews standar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d91b1"/>
                </a:solidFill>
                <a:latin typeface="Arial"/>
              </a:rPr>
              <a:t>Final standards were released </a:t>
            </a:r>
            <a:r>
              <a:rPr b="1" lang="en-US" sz="1700" spc="-1" strike="noStrike" u="sng">
                <a:solidFill>
                  <a:srgbClr val="1d91b1"/>
                </a:solidFill>
                <a:uFillTx/>
                <a:latin typeface="Arial"/>
              </a:rPr>
              <a:t>June 2, 201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edback and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078D-CEC8-4768-8A54-0859B79BD4D7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57200" y="1523880"/>
            <a:ext cx="8229600" cy="45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xternal and State Feedback teams included: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260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K-12 teachers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Postsecondary faculty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te curriculum and assessments expert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searcher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National organizations (including, but not limited, to):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6b6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2" marL="573120" indent="-282600">
              <a:spcBef>
                <a:spcPts val="601"/>
              </a:spcBef>
              <a:spcAft>
                <a:spcPts val="601"/>
              </a:spcAft>
              <a:buClr>
                <a:srgbClr val="e4a1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066680" y="3962520"/>
          <a:ext cx="7772400" cy="1996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996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84040" indent="-284040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American Council on Education (ACE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American Federation of Teachers (AF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Campaign for High School Equity (CHS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Conference Board of the Mathematical Sciences (CBM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Modern Language Association (ML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84040" indent="-2840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Council of Teachers of English (NCTE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Council of Teachers of Mathematics (NCT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4040" indent="-2840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e4a11b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6b6b6b"/>
                          </a:solidFill>
                          <a:latin typeface="Arial"/>
                          <a:ea typeface="Geneva"/>
                        </a:rPr>
                        <a:t>National Education Association (NE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Desig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2A3F-A62A-496C-974A-493B9D345512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*Ready for first-year credit-bearing, postsecondary coursework in mathematics and English without the need for reme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Building on the strength of current state standards, the CCSS are designed to be: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584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Focused, coherent, clear and rigorou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ternationally benchmarked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Anchored in college and career readiness*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58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vidence and research based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Evidenc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3FE4-93B4-4788-BE92-5F9000907E86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57200" y="1523880"/>
            <a:ext cx="8229600" cy="45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vidence was used to guide critical decisions in the following areas: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401760" indent="-28260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Inclusion of particular content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Timing of when content should be introduced and the progression of that content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Ensuring focus and coherence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Organizing and formatting the standards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Determining emphasis on particular topics in standard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Evidence includes:</a:t>
            </a:r>
            <a:endParaRPr b="0" lang="en-US" sz="18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Standards from high-performing countries, leading states, and nationally-regarded framework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Research on adolescent literacy, text complexity, mathematics instruction, quantitative literacy  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 lvl="1" marL="401760" indent="-282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b6b6b"/>
                </a:solidFill>
                <a:latin typeface="Arial"/>
              </a:rPr>
              <a:t>Lists of works consulted and research base included in standards’ appendices</a:t>
            </a:r>
            <a:endParaRPr b="0" lang="en-US" sz="1700" spc="-1" strike="noStrike">
              <a:solidFill>
                <a:srgbClr val="6b6b6b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Core State Standards Evidence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Slide Number Placeholder 2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83EF-F8F0-49B9-BA04-83D655042289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ooter Placeholder 3"/>
          <p:cNvSpPr/>
          <p:nvPr/>
        </p:nvSpPr>
        <p:spPr>
          <a:xfrm>
            <a:off x="0" y="63244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57200" y="144756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r example: Standards from individual high-performing countries and provinces were used to inform content, structure, and language. Writing teams looked for examples of rigor, coherence, and progression. 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grpSp>
        <p:nvGrpSpPr>
          <p:cNvPr id="1203" name="Group 6"/>
          <p:cNvGrpSpPr/>
          <p:nvPr/>
        </p:nvGrpSpPr>
        <p:grpSpPr>
          <a:xfrm>
            <a:off x="981000" y="2590920"/>
            <a:ext cx="7317000" cy="3555000"/>
            <a:chOff x="981000" y="2590920"/>
            <a:chExt cx="7317000" cy="3555000"/>
          </a:xfrm>
        </p:grpSpPr>
        <p:sp>
          <p:nvSpPr>
            <p:cNvPr id="1204" name="TextBox 7"/>
            <p:cNvSpPr/>
            <p:nvPr/>
          </p:nvSpPr>
          <p:spPr>
            <a:xfrm>
              <a:off x="981000" y="2590920"/>
              <a:ext cx="34387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Mathema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elgium (Flemish)</a:t>
              </a:r>
              <a:r>
                <a:rPr b="1" i="1" lang="en-US" sz="1700" spc="-1" strike="noStrike">
                  <a:solidFill>
                    <a:srgbClr val="6b6b6b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 (Albert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hinese Taipe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nd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Jap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Ko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Box 8"/>
            <p:cNvSpPr/>
            <p:nvPr/>
          </p:nvSpPr>
          <p:spPr>
            <a:xfrm>
              <a:off x="4861080" y="2590920"/>
              <a:ext cx="3436920" cy="35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6b"/>
                  </a:solidFill>
                  <a:latin typeface="Arial"/>
                </a:rPr>
                <a:t>English language a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ustral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New South Wal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Victor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Canad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Albert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British Columbi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e4a11b"/>
                </a:buClr>
                <a:buSzPct val="7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Ontari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Eng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Fin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Hong Ko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Irelan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e4a11b"/>
                </a:buClr>
                <a:buSzPct val="7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6b6b6b"/>
                  </a:solidFill>
                  <a:latin typeface="Arial"/>
                </a:rPr>
                <a:t>Singap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10" descr="_0007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7" name="Group 38"/>
          <p:cNvGrpSpPr/>
          <p:nvPr/>
        </p:nvGrpSpPr>
        <p:grpSpPr>
          <a:xfrm>
            <a:off x="-6480" y="-12600"/>
            <a:ext cx="9153360" cy="6886440"/>
            <a:chOff x="-6480" y="-12600"/>
            <a:chExt cx="9153360" cy="6886440"/>
          </a:xfrm>
        </p:grpSpPr>
        <p:sp>
          <p:nvSpPr>
            <p:cNvPr id="1208" name="Freeform 39"/>
            <p:cNvSpPr/>
            <p:nvPr/>
          </p:nvSpPr>
          <p:spPr>
            <a:xfrm>
              <a:off x="952200" y="371520"/>
              <a:ext cx="8191800" cy="6502320"/>
            </a:xfrm>
            <a:custGeom>
              <a:avLst/>
              <a:gdLst>
                <a:gd name="textAreaLeft" fmla="*/ 0 w 8191800"/>
                <a:gd name="textAreaRight" fmla="*/ 8192160 w 8191800"/>
                <a:gd name="textAreaTop" fmla="*/ 0 h 6502320"/>
                <a:gd name="textAreaBottom" fmla="*/ 6502680 h 6502320"/>
              </a:gdLst>
              <a:ahLst/>
              <a:rect l="textAreaLeft" t="textAreaTop" r="textAreaRight" b="textAreaBottom"/>
              <a:pathLst>
                <a:path w="8191500" h="6502400">
                  <a:moveTo>
                    <a:pt x="0" y="4533900"/>
                  </a:moveTo>
                  <a:lnTo>
                    <a:pt x="7759700" y="0"/>
                  </a:lnTo>
                  <a:lnTo>
                    <a:pt x="8191500" y="304800"/>
                  </a:lnTo>
                  <a:lnTo>
                    <a:pt x="8191500" y="6489700"/>
                  </a:lnTo>
                  <a:lnTo>
                    <a:pt x="2578100" y="6502400"/>
                  </a:lnTo>
                  <a:lnTo>
                    <a:pt x="0" y="453390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5"/>
            <p:cNvSpPr/>
            <p:nvPr/>
          </p:nvSpPr>
          <p:spPr>
            <a:xfrm>
              <a:off x="-6480" y="3992040"/>
              <a:ext cx="4786200" cy="2865960"/>
            </a:xfrm>
            <a:custGeom>
              <a:avLst/>
              <a:gdLst/>
              <a:ahLst/>
              <a:rect l="l" t="t" r="r" b="b"/>
              <a:pathLst>
                <a:path w="4786489" h="2865967">
                  <a:moveTo>
                    <a:pt x="2823" y="0"/>
                  </a:moveTo>
                  <a:lnTo>
                    <a:pt x="4786489" y="2865967"/>
                  </a:lnTo>
                  <a:lnTo>
                    <a:pt x="2823" y="2865967"/>
                  </a:lnTo>
                  <a:cubicBezTo>
                    <a:pt x="1412" y="1909234"/>
                    <a:pt x="0" y="952500"/>
                    <a:pt x="28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6"/>
            <p:cNvSpPr/>
            <p:nvPr/>
          </p:nvSpPr>
          <p:spPr>
            <a:xfrm rot="10800000">
              <a:off x="8342280" y="-360"/>
              <a:ext cx="804600" cy="9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42"/>
            <p:cNvSpPr/>
            <p:nvPr/>
          </p:nvSpPr>
          <p:spPr>
            <a:xfrm>
              <a:off x="272880" y="-12600"/>
              <a:ext cx="8852400" cy="5448240"/>
            </a:xfrm>
            <a:custGeom>
              <a:avLst/>
              <a:gdLst>
                <a:gd name="textAreaLeft" fmla="*/ 0 w 8852400"/>
                <a:gd name="textAreaRight" fmla="*/ 8852760 w 8852400"/>
                <a:gd name="textAreaTop" fmla="*/ 0 h 5448240"/>
                <a:gd name="textAreaBottom" fmla="*/ 5448600 h 5448240"/>
              </a:gdLst>
              <a:ahLst/>
              <a:rect l="textAreaLeft" t="textAreaTop" r="textAreaRight" b="textAreaBottom"/>
              <a:pathLst>
                <a:path w="8851900" h="5448300">
                  <a:moveTo>
                    <a:pt x="1082675" y="4946650"/>
                  </a:moveTo>
                  <a:lnTo>
                    <a:pt x="8636000" y="539750"/>
                  </a:lnTo>
                  <a:lnTo>
                    <a:pt x="8851900" y="415925"/>
                  </a:lnTo>
                  <a:lnTo>
                    <a:pt x="8839200" y="12700"/>
                  </a:lnTo>
                  <a:lnTo>
                    <a:pt x="8261350" y="0"/>
                  </a:lnTo>
                  <a:lnTo>
                    <a:pt x="0" y="4867275"/>
                  </a:lnTo>
                  <a:lnTo>
                    <a:pt x="654050" y="5448300"/>
                  </a:lnTo>
                  <a:lnTo>
                    <a:pt x="1082675" y="4946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2" name="Freeform 13"/>
          <p:cNvSpPr/>
          <p:nvPr/>
        </p:nvSpPr>
        <p:spPr>
          <a:xfrm>
            <a:off x="561960" y="1440"/>
            <a:ext cx="8583480" cy="4894560"/>
          </a:xfrm>
          <a:custGeom>
            <a:avLst/>
            <a:gdLst>
              <a:gd name="textAreaLeft" fmla="*/ 0 w 8583480"/>
              <a:gd name="textAreaRight" fmla="*/ 8583840 w 8583480"/>
              <a:gd name="textAreaTop" fmla="*/ 0 h 4894560"/>
              <a:gd name="textAreaBottom" fmla="*/ 4894920 h 4894560"/>
            </a:gdLst>
            <a:ahLst/>
            <a:rect l="textAreaLeft" t="textAreaTop" r="textAreaRight" b="textAreaBottom"/>
            <a:pathLst>
              <a:path w="8583084" h="4894791">
                <a:moveTo>
                  <a:pt x="858309" y="4894791"/>
                </a:moveTo>
                <a:lnTo>
                  <a:pt x="8282517" y="559858"/>
                </a:lnTo>
                <a:lnTo>
                  <a:pt x="8583084" y="2116"/>
                </a:lnTo>
                <a:lnTo>
                  <a:pt x="7986184" y="0"/>
                </a:lnTo>
                <a:lnTo>
                  <a:pt x="7962900" y="5292"/>
                </a:lnTo>
                <a:lnTo>
                  <a:pt x="0" y="4681008"/>
                </a:lnTo>
                <a:lnTo>
                  <a:pt x="858309" y="48947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8"/>
          <p:cNvSpPr/>
          <p:nvPr/>
        </p:nvSpPr>
        <p:spPr>
          <a:xfrm>
            <a:off x="3581280" y="3581280"/>
            <a:ext cx="55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Common Core State Standards for </a:t>
            </a: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Mathemati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4:38:41Z</dcterms:created>
  <dc:creator>Laura Slover</dc:creator>
  <dc:description/>
  <dc:language>en-US</dc:language>
  <cp:lastModifiedBy>NYCDOE</cp:lastModifiedBy>
  <cp:lastPrinted>2010-02-24T23:39:36Z</cp:lastPrinted>
  <dcterms:modified xsi:type="dcterms:W3CDTF">2011-09-15T12:45:10Z</dcterms:modified>
  <cp:revision>598</cp:revision>
  <dc:subject/>
  <dc:title>Slide 1</dc:title>
</cp:coreProperties>
</file>